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54712A-8715-4FE4-9BF1-57BC77BAAC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F9773F8-9832-456E-95EF-3A858D838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7848A8-3282-45F3-800F-800A4E30E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711-42A6-42B7-ADB7-1167A818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FA5-5034-4991-ADA4-AC8DE99D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5DB-573B-472A-8DE0-2F5C6CEB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3CC-706B-4BA5-B915-3918A2C0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189-00C7-48EB-9ABB-8108DB62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62D-7360-46E5-8F56-3B2471DD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F0F-1C44-483F-8980-5876A22B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0F2-087D-4006-B74B-D82EA9D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D73-CFE8-441E-8E44-90608414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4D5-19F6-4357-83DF-088E0AC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00BB-38F7-49DA-984F-A51A790E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A98-A446-495F-82D8-F7536F76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3A4B9E-40A2-4B07-8F3B-D1E261A958EB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E83F3E-E9DA-497F-85E4-55D709A424EE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52280" y="685800"/>
            <a:ext cx="29718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Phonics (Consonant Digraphs th, wh, sh, ch (tch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tegorize your spelling words using the above consonant digraphs and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underline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the digraph in each word. (ex. th;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k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Dictionary Skill (Parts of a dictionary)  A-K are in the beginning, L-S are in the middle, and T-Z are at the end.  Using a dictionary, write 4 words found in the beginning, 4 words found in the middle, and 4 words that are found at the end of a dictionary.  List each word under the correct category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itials________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ammar (Proper Nou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proper/special noun is a word that names a person, place, or thing and begins with a capital letter.  Write 7 sentences that have proper nouns in them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Underlin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he proper nouns in each sent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ex.  I’m going to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Toys R U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to buy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Wi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)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scene.  Draw a picture.  Include in that picture a place (setting), people (characters), and something that is happening (action/events).  After you have drawn your scene, write about the scene.  Include in your writing where the scene takes place, who are the characters in the scene and what is hap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ening in th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Chinatown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itials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0:53:53Z</dcterms:created>
  <dc:creator> </dc:creator>
  <dc:description/>
  <dc:language>en-US</dc:language>
  <cp:lastModifiedBy> </cp:lastModifiedBy>
  <cp:lastPrinted>2009-12-03T11:38:05Z</cp:lastPrinted>
  <dcterms:modified xsi:type="dcterms:W3CDTF">2010-08-11T00:50:39Z</dcterms:modified>
  <cp:revision>26</cp:revision>
  <dc:subject/>
  <dc:title>Slide 1</dc:title>
</cp:coreProperties>
</file>